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28E-3F18-47E6-BA61-02805828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75E-7192-49E0-A992-5D2CCD4E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04B-A6C7-45B2-A4DA-BF07284B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419-E7D7-43AF-B3A4-0C49A5E5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C11-C2C6-43C8-BBA8-B6C16CD9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FAD-807F-4649-A181-8FE71F67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2C7-DC67-40ED-BB1F-B78A6B71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DA2-A349-4566-B587-BE309F14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E99-C4D4-47E9-9C31-B4925ED4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6ED-4644-42F2-BF17-05204A37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0C7-510A-48F1-B439-6C37951E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ACA-0BA9-4FB8-B40B-19ABD43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4E01-972D-4104-B9A6-41FC80C93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Over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25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or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(not C), you can define operators on class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operators include: +, -, +=, &lt;, ++, %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sed properly, can greatly improve clarity and usability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asily be abu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or Overloading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(int initVal = 0) { m_val = initVa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Val() { return m_va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_v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operator+ (Integer&amp; lhs, Integer&amp; r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nteger(lhs.GetVal() + rhs.GetVal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531080" y="3962520"/>
            <a:ext cx="4179600" cy="838080"/>
            <a:chOff x="1531080" y="3962520"/>
            <a:chExt cx="4179600" cy="838080"/>
          </a:xfrm>
        </p:grpSpPr>
        <p:sp>
          <p:nvSpPr>
            <p:cNvPr id="48" name=""/>
            <p:cNvSpPr/>
            <p:nvPr/>
          </p:nvSpPr>
          <p:spPr>
            <a:xfrm>
              <a:off x="1531080" y="3962520"/>
              <a:ext cx="4179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function: 2 para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6000" y="4441680"/>
              <a:ext cx="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a(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b(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c = a +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c = %d\n", c.GetVal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9360" y="5105520"/>
            <a:ext cx="1181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way to do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(int initVal = 0) { m_val = initVa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Val() { return m_va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operator+ (Integer &amp;r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nteger(m_val + rhs.m_v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_v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444040" y="2787480"/>
            <a:ext cx="4266720" cy="838080"/>
            <a:chOff x="2444040" y="2787480"/>
            <a:chExt cx="4266720" cy="838080"/>
          </a:xfrm>
        </p:grpSpPr>
        <p:sp>
          <p:nvSpPr>
            <p:cNvPr id="56" name=""/>
            <p:cNvSpPr/>
            <p:nvPr/>
          </p:nvSpPr>
          <p:spPr>
            <a:xfrm>
              <a:off x="2444040" y="2787480"/>
              <a:ext cx="426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ber function: 1 parame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0040" y="3246120"/>
              <a:ext cx="0" cy="379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abuse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(int initVal = 0) { m_val = initVal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operator+ () // Overload unary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Value = %d\n", m_va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_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a(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a; // Extremely unclea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&amp;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 must either b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take at least one parameter that i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erators declared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 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obal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erators declared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obal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oaded operators cannot have defaul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verloaded operators except assignment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inherited by deriv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or Overloading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operator-overloading method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ing the class the methods are defi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n'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ute: use it only when it makes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load operators in a symentric fashion; for example, if you overload the Equal operator (==) overload not equals (!=)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alternate signatures; for example, provide both Add() and operator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4:24:08Z</dcterms:created>
  <dc:creator>Antonio Maiorano</dc:creator>
  <dc:description/>
  <dc:language>en-US</dc:language>
  <cp:lastModifiedBy>Tony</cp:lastModifiedBy>
  <dcterms:modified xsi:type="dcterms:W3CDTF">2003-08-23T18:10:03Z</dcterms:modified>
  <cp:revision>7</cp:revision>
  <dc:subject/>
  <dc:title>C/C++ Tutorial</dc:title>
</cp:coreProperties>
</file>